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F68E-F1AB-4C0A-85E4-E8EECA95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FE4B-7DEB-4680-B5CA-EC090594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E16C-681D-4D25-B097-38DA5FA4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38E-3A5C-4B93-8A72-A563DAA5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BE4F-0643-4F30-923F-61B11BE9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84D-D380-4FEB-B5E7-36EC37CA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6C43-2FE6-417C-AC94-88D0A25B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A850-0E69-4B70-A4C6-CA26CBBD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8538-A3F2-4F51-988E-82DFAF7F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FDDE-D5DE-44A6-AD9A-A46EF6E3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00B8-049B-4F54-BD4C-F2A55B18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7C7-2BE9-4E3A-890F-EB92367E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6072-6901-4F8D-8B36-AAE8E22A1AA4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3333ff"/>
                </a:solidFill>
                <a:latin typeface="Arial"/>
              </a:rPr>
              <a:t>Kiskunhalas környékének talaja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c0000"/>
                </a:solidFill>
                <a:latin typeface="Arial"/>
              </a:rPr>
              <a:t>Talajtani vizsgálatok a Szent József Katolikus Általános Iskola diákja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212760" y="1743120"/>
            <a:ext cx="5464080" cy="4928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c1523f"/>
                </a:solidFill>
                <a:latin typeface="Arial"/>
              </a:rPr>
              <a:t>Kiskunhalas környékének talajait vizsgáltuk meg a projekt keretében. Az alábbi kérdésekre keresve a válasz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1125"/>
              </a:spcBef>
              <a:buClr>
                <a:srgbClr val="c1523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1523f"/>
                </a:solidFill>
                <a:latin typeface="Arial"/>
              </a:rPr>
              <a:t>Hogyan veszünk mintát a talajokból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1125"/>
              </a:spcBef>
              <a:buClr>
                <a:srgbClr val="c1523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1523f"/>
                </a:solidFill>
                <a:latin typeface="Arial"/>
              </a:rPr>
              <a:t>Milyen típusú talajok vannak városunk közeléb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1125"/>
              </a:spcBef>
              <a:buClr>
                <a:srgbClr val="c1523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1523f"/>
                </a:solidFill>
                <a:latin typeface="Arial"/>
              </a:rPr>
              <a:t>Melyek a legfontosabb jellemzői e talajokna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1125"/>
              </a:spcBef>
              <a:buClr>
                <a:srgbClr val="c1523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1523f"/>
                </a:solidFill>
                <a:latin typeface="Arial"/>
              </a:rPr>
              <a:t>Hol található meg ez a terület Kiskunhalas közeléb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1125"/>
              </a:spcBef>
              <a:buClr>
                <a:srgbClr val="c1523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1523f"/>
                </a:solidFill>
                <a:latin typeface="Arial"/>
              </a:rPr>
              <a:t>Hogyan keressük meg ezt a területet különböző térképeken, földgömbö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1125"/>
              </a:spcBef>
              <a:buClr>
                <a:srgbClr val="c1523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1523f"/>
                </a:solidFill>
                <a:latin typeface="Arial"/>
              </a:rPr>
              <a:t>Melyek az előforduló növények raj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124000" y="549360"/>
            <a:ext cx="482436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c1523f"/>
                </a:solidFill>
                <a:latin typeface="comic"/>
              </a:rPr>
              <a:t>Vizsgálódásunk célkitűzései, módszer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IMG_5879"/>
          <p:cNvPicPr/>
          <p:nvPr/>
        </p:nvPicPr>
        <p:blipFill>
          <a:blip r:embed="rId1"/>
          <a:stretch/>
        </p:blipFill>
        <p:spPr>
          <a:xfrm>
            <a:off x="5683320" y="4181400"/>
            <a:ext cx="3460680" cy="230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IMG_5873"/>
          <p:cNvPicPr/>
          <p:nvPr/>
        </p:nvPicPr>
        <p:blipFill>
          <a:blip r:embed="rId2"/>
          <a:stretch/>
        </p:blipFill>
        <p:spPr>
          <a:xfrm>
            <a:off x="5703840" y="1835280"/>
            <a:ext cx="34401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79280" y="1844640"/>
            <a:ext cx="518472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 októberi délelőttön az osztállyal biciklire pattantunk és elindultunk városunk határába megvizsgálni talajainkat és mintát ven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Utunk során a következőket tanultuk me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alajmintát legelők esetében 2-20cm-es rétegből veszü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ántóföld esetében pedig 0-30cm-ese mélységb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ha-onként 30 ponton vegyünk azonos tömegű mintát, keverjük össze, majd egy egységnyit (1-1,5kg) tegyünk nejlonzsákba és címkézzük f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 ilyen sok mintát nem vettünk, de ezzel a kevéssel is megküzdöttü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132000" y="692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A talajmintavé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MG_5876"/>
          <p:cNvPicPr/>
          <p:nvPr/>
        </p:nvPicPr>
        <p:blipFill>
          <a:blip r:embed="rId1"/>
          <a:stretch/>
        </p:blipFill>
        <p:spPr>
          <a:xfrm>
            <a:off x="7093080" y="836640"/>
            <a:ext cx="1631880" cy="244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IMG_5874"/>
          <p:cNvPicPr/>
          <p:nvPr/>
        </p:nvPicPr>
        <p:blipFill>
          <a:blip r:embed="rId2"/>
          <a:stretch/>
        </p:blipFill>
        <p:spPr>
          <a:xfrm>
            <a:off x="5456160" y="3998880"/>
            <a:ext cx="330984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440080" y="663480"/>
            <a:ext cx="423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Kiskunhalas környékének talaj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681520" y="2255760"/>
            <a:ext cx="3462480" cy="33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árosunk környékének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leggyakoribb talajtípusa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 következők volta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Homoktalaj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Humuszos homoktalaj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zikes talaj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ezőségi talaj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 ezek közül a szikes talajokat vizsgáltuk meg tüzetesebben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8"/>
          <p:cNvPicPr/>
          <p:nvPr/>
        </p:nvPicPr>
        <p:blipFill>
          <a:blip r:embed="rId1"/>
          <a:stretch/>
        </p:blipFill>
        <p:spPr>
          <a:xfrm>
            <a:off x="195120" y="1547640"/>
            <a:ext cx="2489400" cy="4327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37"/>
          <p:cNvPicPr/>
          <p:nvPr/>
        </p:nvPicPr>
        <p:blipFill>
          <a:blip r:embed="rId2"/>
          <a:stretch/>
        </p:blipFill>
        <p:spPr>
          <a:xfrm>
            <a:off x="2960640" y="1521000"/>
            <a:ext cx="2112840" cy="4357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517680" y="6124680"/>
            <a:ext cx="16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omoktalaj metsz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189240" y="611964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ikes talaj metsz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IMG_5915"/>
          <p:cNvPicPr/>
          <p:nvPr/>
        </p:nvPicPr>
        <p:blipFill>
          <a:blip r:embed="rId1"/>
          <a:stretch/>
        </p:blipFill>
        <p:spPr>
          <a:xfrm>
            <a:off x="2413080" y="2311560"/>
            <a:ext cx="4317840" cy="2877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2440080" y="663480"/>
            <a:ext cx="423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A talajok legfontosabb jellemzőinek vizsgál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103560" y="2228760"/>
            <a:ext cx="293544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természettudományi termünkben kísérleteink során megvizsgáltu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 u="sng">
                <a:solidFill>
                  <a:srgbClr val="ffffff"/>
                </a:solidFill>
                <a:uFillTx/>
                <a:latin typeface="Arial"/>
              </a:rPr>
              <a:t>A talaj kémhatását (p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 u="sng">
                <a:solidFill>
                  <a:srgbClr val="ffffff"/>
                </a:solidFill>
                <a:uFillTx/>
                <a:latin typeface="Arial"/>
              </a:rPr>
              <a:t>A talaj víztartalmá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 u="sng">
                <a:solidFill>
                  <a:srgbClr val="ffffff"/>
                </a:solidFill>
                <a:uFillTx/>
                <a:latin typeface="Arial"/>
              </a:rPr>
              <a:t>A talaj szervesanyag-tartalmá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 u="sng">
                <a:solidFill>
                  <a:srgbClr val="ffffff"/>
                </a:solidFill>
                <a:uFillTx/>
                <a:latin typeface="Arial"/>
              </a:rPr>
              <a:t>A talaj mésztartalmá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 u="sng">
                <a:solidFill>
                  <a:srgbClr val="ffffff"/>
                </a:solidFill>
                <a:uFillTx/>
                <a:latin typeface="Arial"/>
              </a:rPr>
              <a:t>Arany-féle kötöttségét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égre kedvünkre kísérletezhettünk a kémiai eszközökke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MG_5919"/>
          <p:cNvPicPr/>
          <p:nvPr/>
        </p:nvPicPr>
        <p:blipFill>
          <a:blip r:embed="rId2"/>
          <a:stretch/>
        </p:blipFill>
        <p:spPr>
          <a:xfrm rot="8114400">
            <a:off x="6093000" y="1219320"/>
            <a:ext cx="2560320" cy="1706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IMG_5923"/>
          <p:cNvPicPr/>
          <p:nvPr/>
        </p:nvPicPr>
        <p:blipFill>
          <a:blip r:embed="rId3"/>
          <a:stretch/>
        </p:blipFill>
        <p:spPr>
          <a:xfrm rot="2437200">
            <a:off x="336240" y="1500120"/>
            <a:ext cx="2558880" cy="1704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IMG_5925"/>
          <p:cNvPicPr/>
          <p:nvPr/>
        </p:nvPicPr>
        <p:blipFill>
          <a:blip r:embed="rId4"/>
          <a:stretch/>
        </p:blipFill>
        <p:spPr>
          <a:xfrm rot="19159200">
            <a:off x="366480" y="4524480"/>
            <a:ext cx="2558880" cy="1704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IMG_5927"/>
          <p:cNvPicPr/>
          <p:nvPr/>
        </p:nvPicPr>
        <p:blipFill>
          <a:blip r:embed="rId5"/>
          <a:stretch/>
        </p:blipFill>
        <p:spPr>
          <a:xfrm rot="13585800">
            <a:off x="6058080" y="4466880"/>
            <a:ext cx="25588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440080" y="663480"/>
            <a:ext cx="42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Kísérleteink eredmény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zövegdoboz 2"/>
          <p:cNvSpPr/>
          <p:nvPr/>
        </p:nvSpPr>
        <p:spPr>
          <a:xfrm>
            <a:off x="3551400" y="1935000"/>
            <a:ext cx="5303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rany –féle kötöttség vizsgálat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rany‐féle kötöttség vizsgálatánál 100g légszáraz talajhoz vizet kell csepegtetni az adott állapot eléréséhe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i talajunk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58 ml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izet vett f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nnek segítségével a víz és levegőgazdálkodásra kaptunk utalá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zövegdoboz 3"/>
          <p:cNvSpPr/>
          <p:nvPr/>
        </p:nvSpPr>
        <p:spPr>
          <a:xfrm>
            <a:off x="3597120" y="4437000"/>
            <a:ext cx="53643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észtartalom vizsgál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ósavval CO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eletkezése közben reagál. A pezsgés (CO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eletkezés intenzitása) alapján következtetünk a minta mésztartalmá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pezsgés mértéke A mésztartalom (% b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A mi talajunk esetében erőteljes rövid pezsgést tapasztaltunk.  =  5‐10% (erősen mesz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zövegdoboz 4"/>
          <p:cNvSpPr/>
          <p:nvPr/>
        </p:nvSpPr>
        <p:spPr>
          <a:xfrm>
            <a:off x="0" y="1920960"/>
            <a:ext cx="2941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alaj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íztartalm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egyszerű hevítéssel mutattuk 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gyanígy mutattuk ki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umusztartalma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talaj pH vizsgál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alajoldatot készítettünk és univerzális indikátor papírral mértük az értéké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i talajunk esetében e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8,8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volt. Vagyis a talajuk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lúgo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émhatás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440080" y="663480"/>
            <a:ext cx="423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Hol találhatók meg ezek a talaj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170160" y="1692360"/>
            <a:ext cx="278928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t, hogy merre is menjünk először megterveztük az órán és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iskunhalas térképé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gondolatban végigjártuk az u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úttal megkerestük azt is, melyik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ontinense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a földgömb mely pontján találhatjuk meg ezt a táj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vel ráértünk azt is kikerestük, hogy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projektben résztvevő partnereink városa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hol található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IMG_7412"/>
          <p:cNvPicPr/>
          <p:nvPr/>
        </p:nvPicPr>
        <p:blipFill>
          <a:blip r:embed="rId1"/>
          <a:stretch/>
        </p:blipFill>
        <p:spPr>
          <a:xfrm rot="20540400">
            <a:off x="240840" y="1252440"/>
            <a:ext cx="2559240" cy="1704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IMG_7414"/>
          <p:cNvPicPr/>
          <p:nvPr/>
        </p:nvPicPr>
        <p:blipFill>
          <a:blip r:embed="rId2"/>
          <a:stretch/>
        </p:blipFill>
        <p:spPr>
          <a:xfrm rot="1041600">
            <a:off x="323640" y="4101840"/>
            <a:ext cx="2558880" cy="1704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IMG_7411"/>
          <p:cNvPicPr/>
          <p:nvPr/>
        </p:nvPicPr>
        <p:blipFill>
          <a:blip r:embed="rId3"/>
          <a:stretch/>
        </p:blipFill>
        <p:spPr>
          <a:xfrm rot="958200">
            <a:off x="6375240" y="1108080"/>
            <a:ext cx="2559240" cy="1704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IMG_7409"/>
          <p:cNvPicPr/>
          <p:nvPr/>
        </p:nvPicPr>
        <p:blipFill>
          <a:blip r:embed="rId4"/>
          <a:stretch/>
        </p:blipFill>
        <p:spPr>
          <a:xfrm rot="20661600">
            <a:off x="6235200" y="4214880"/>
            <a:ext cx="25592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440080" y="663480"/>
            <a:ext cx="423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A szikeseken előforduló növ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03360" y="1711440"/>
            <a:ext cx="7937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ajnos a területünk kissé bolygatott volt. Ezért elsősorban gyakori gyomokat találtu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Íme közülük néhá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0" y="55738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ókoló bogács (Carduus nut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133720" y="55846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özönséges cickafark (Achillemillefoli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4572000" y="559584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admurok (Daucus caro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6691320" y="5595840"/>
            <a:ext cx="21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zei katáng (Cichorium intyb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http://lh6.ggpht.com/_rWksMjEBTQk/Sa1JWcXjCYI/AAAAAAAAJnE/gKcNQuHOYQg/s800/leo-mic-Carduus-nutans-1676.jpg"/>
          <p:cNvPicPr/>
          <p:nvPr/>
        </p:nvPicPr>
        <p:blipFill>
          <a:blip r:embed="rId1"/>
          <a:stretch/>
        </p:blipFill>
        <p:spPr>
          <a:xfrm>
            <a:off x="228600" y="3138480"/>
            <a:ext cx="1832040" cy="2513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http://www.commanster.eu/commanster/Plants/Flowers/SpFlowers/Achillea.millefolium2.jpg"/>
          <p:cNvPicPr/>
          <p:nvPr/>
        </p:nvPicPr>
        <p:blipFill>
          <a:blip r:embed="rId2"/>
          <a:stretch/>
        </p:blipFill>
        <p:spPr>
          <a:xfrm>
            <a:off x="2451240" y="3124080"/>
            <a:ext cx="1668240" cy="2513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http://hortiplex.gardenweb.com/plants/jour/p/17/gw1013017/im.jpeg"/>
          <p:cNvPicPr/>
          <p:nvPr/>
        </p:nvPicPr>
        <p:blipFill>
          <a:blip r:embed="rId3"/>
          <a:stretch/>
        </p:blipFill>
        <p:spPr>
          <a:xfrm>
            <a:off x="4556160" y="3127320"/>
            <a:ext cx="1895400" cy="2513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http://fortyfour.typepad.com/photos/uncategorized/chicory1.jpg"/>
          <p:cNvPicPr/>
          <p:nvPr/>
        </p:nvPicPr>
        <p:blipFill>
          <a:blip r:embed="rId4"/>
          <a:stretch/>
        </p:blipFill>
        <p:spPr>
          <a:xfrm>
            <a:off x="6861240" y="3110040"/>
            <a:ext cx="18860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440080" y="663480"/>
            <a:ext cx="42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Mi mindent tanultun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712800" y="1685880"/>
            <a:ext cx="3859200" cy="45406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583160" y="1689120"/>
            <a:ext cx="3859200" cy="4540680"/>
          </a:xfrm>
          <a:prstGeom prst="rect">
            <a:avLst/>
          </a:prstGeom>
          <a:solidFill>
            <a:srgbClr val="c15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41240" y="1897200"/>
            <a:ext cx="1900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1523f"/>
                </a:solidFill>
                <a:latin typeface="Arial"/>
              </a:rPr>
              <a:t>Főbb talajtípu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cc00"/>
                </a:solidFill>
                <a:latin typeface="Arial"/>
              </a:rPr>
              <a:t>Szikes, homok, mezősé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671920" y="2627280"/>
            <a:ext cx="1900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1523f"/>
                </a:solidFill>
                <a:latin typeface="Arial"/>
              </a:rPr>
              <a:t>Leggyakoribb növény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cc00"/>
                </a:solidFill>
                <a:latin typeface="Arial"/>
              </a:rPr>
              <a:t>Vadmurok, katáng, bókoló bogán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826920" y="3608280"/>
            <a:ext cx="1900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1523f"/>
                </a:solidFill>
                <a:latin typeface="Arial"/>
              </a:rPr>
              <a:t>Hogyan jutottunk ki a terület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cc00"/>
                </a:solidFill>
                <a:latin typeface="Arial"/>
              </a:rPr>
              <a:t>bicikl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481120" y="4782960"/>
            <a:ext cx="1900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1523f"/>
                </a:solidFill>
                <a:latin typeface="Arial"/>
              </a:rPr>
              <a:t>A talajmintánk kémha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cc00"/>
                </a:solidFill>
                <a:latin typeface="Arial"/>
              </a:rPr>
              <a:t>8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04624E-007 L 0.2224 -0.3889 E">
                                      <p:cBhvr>
                                        <p:cTn id="363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46821E-006 L 0.43958 0.14381 E">
                                      <p:cBhvr>
                                        <p:cTn id="36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02312E-006 L 0.64791 -0.0444 E">
                                      <p:cBhvr>
                                        <p:cTn id="37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8 0.00069 0.03195 -0.00116 0.04757 0.00231 C 0.05208 0.00323 0.05868 0.01271 0.05868 0.01271 C 0.06094 0.02219 0.06667 0.03052 0.07292 0.03607 C 0.0724 0.05086 0.0757 0.09826 0.06354 0.11422 C 0.06215 0.11607 0.06007 0.11676 0.05868 0.11838 C 0.04722 0.13156 0.05521 0.12693 0.04601 0.13109 C 0.0382 0.14219 0.03142 0.13688 0.0191 0.13549 C 0.01806 0.13341 0.01701 0.13109 0.0158 0.12901 C 0.01441 0.1267 0.01233 0.12508 0.01111 0.12277 C 0.0066 0.11422 0.00504 0.10242 0.00156 0.09318 C -0.00104 0.07514 -0.0033 0.07098 0 0.04878 C 0.0007 0.0437 0.01163 0.04 0.01424 0.03815 C 0.0132 0.03468 0.01059 0.03121 0.01111 0.02751 C 0.01146 0.02543 0.01424 0.02543 0.0158 0.02543 C 0.03594 0.02404 0.05608 0.02427 0.07622 0.02335 C 0.08889 0.02289 0.10156 0.02196 0.11424 0.02127 C 0.11649 0.02034 0.12153 0.01919 0.12222 0.01479 C 0.12326 0.00786 0.11597 0.00647 0.12535 0.01063 C 0.12326 0.01133 0.11979 0.00994 0.1191 0.01271 C 0.11858 0.01503 0.12205 0.01595 0.12379 0.01711 C 0.12604 0.01872 0.13299 0.02057 0.1349 0.02127 C 0.14236 0.02797 0.14861 0.03445 0.15712 0.03815 C 0.16059 0.04485 0.1632 0.04832 0.16823 0.05294 C 0.17622 0.06867 0.18993 0.09757 0.20156 0.10797 C 0.20677 0.1126 0.21337 0.11422 0.2191 0.1163 C 0.27674 0.11306 0.23941 0.11537 0.26823 0.10797 C 0.27361 0.10289 0.27761 0.1015 0.28403 0.09942 C 0.28872 0.09341 0.29462 0.09156 0.3 0.0867 C 0.30365 0.0793 0.3066 0.07699 0.31267 0.07398 C 0.31754 0.06404 0.32326 0.05664 0.33177 0.05294 C 0.34549 0.05526 0.35677 0.05988 0.36979 0.06566 C 0.37535 0.0682 0.38142 0.06705 0.38733 0.06774 C 0.41806 0.08138 0.3967 0.11283 0.39844 0.17133 C 0.39844 0.17341 0.39983 0.17549 0.4 0.17757 C 0.40035 0.18242 0.4 0.18751 0.4 0.19237 E">
                                      <p:cBhvr>
                                        <p:cTn id="375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9:53:47Z</dcterms:created>
  <dc:creator>otthon</dc:creator>
  <dc:description/>
  <dc:language>en-US</dc:language>
  <cp:lastModifiedBy>Szent József Általános Iskola</cp:lastModifiedBy>
  <dcterms:modified xsi:type="dcterms:W3CDTF">2010-02-10T08:31:27Z</dcterms:modified>
  <cp:revision>14</cp:revision>
  <dc:subject/>
  <dc:title>Kiskunhalas környékének talajai</dc:title>
</cp:coreProperties>
</file>